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557-27E6-42B0-8C00-E03E9C38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5AE0-0CEA-491B-A3BE-623ECDFC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DDA5-3B62-4D3F-A261-920310E9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4AAF-5C60-4004-837D-F208316C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AF9D-BCDD-4945-9DE6-29C84A1C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6291-A10E-4459-AA52-FA5768DA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793E-0AA5-42FF-9D89-81A1BF38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009C-A907-43CB-B849-6D4B8618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0243-2597-4B1E-9FA0-51DBCB8B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876-255E-4D1B-A8C9-79AB183A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A7F1-6BBF-43DB-86AF-753868D6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03F0-39F4-4657-B26F-CD8D9353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BBAF-518D-434F-82D7-3B905568D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aso de espa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ñol 5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ecciones 6 a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Ad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djetivos in Spanish are describing words just like in Englis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ome of the adjetivos you have learned ar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rand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equ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on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telig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úp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fíc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or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ub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os adjetivos y la concorda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jectives in Spanish must MATCH the noun they are describing. Therefore males or masculine objects will be described with adjectives ending in O or OS (plural). Females or femenine objects will be described with adjectives ending in A or 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: La casa es muy boni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…El hombre es r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…Los libros son 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jectives that end in a consonant or another vowel DO NOT CHANGE, but DO BECOME PLURAL BY ADDING S or ES IF NECESS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… La casa es grande. Las casas son gran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… La profesora es inteligente. Los estudiantes son intelig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lacement of Adjectives in Span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 English, the correct placement of adjectives is BEFORE the no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 Spanish, the correct placement of adjectives is AFTER the 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: English….a big house…Spanish….Una casa gra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….The fast cars….Spanish…Los autos rápid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ómo se cambia una frase al neg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ust like in English, all Spanish sentences contain these two parts of speec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he natural order of an affirmative sentence in Spanish is Subject then 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ample….Juan ba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rases Neg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 change a sentence from the affirmative to the negative, simply place NO in front of the ver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f the subject is stated, it goes between the subject and the verb. If not, it simply goes before the ver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….Nosotros escuchamos a la profes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….Nosotros no escuchamos a la profes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….Canto a la can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….No canto a la can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rases a Pregunt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hanging statements to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 we´ve seen, the normal pattern of a statement in Spanish is Subject followed by Ver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 change a statement into a question, simply REVERSE the order…and add the inverted question mark and regular question ma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….. Juan habla el español muy b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…..¿Habla juan el español muy bi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…..Tú trabajas todos los d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…..¿Trabajas tú todos los dí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…..El doctor es muy intelig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…..Es muy inteligente el do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Núm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spelling of numbers in Spanish follow certain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to 10…..careful of 6…changes English rule of I before E except after C. (seis). 7 does NOT change the rule! (sie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 does NOT end in S! (die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6 to 19…..compound words that combine 10 (with the Z changed to CI) and the ONES numb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….17…..diecisiete. ETC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6 has accent….diecisé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….like 6 changes I before E ru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1 to 29….like 16 to 19….compound words that combine 20 (with the final e changed to an i) and the ONES number attac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….28…..veintio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2 and 26 have an accent….veintidós…veintisé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0´s…begin new rule of separating the tens number and the ones nu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áctica con los num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d the following series of numbers aloud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0 24 25 6 8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6 9 20 2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1 14 13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3 10 0 9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7 16 7 4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erbos de 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rbs that are called ER verbs are designated as such because of their last two letters, the same as AR ver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me common ER verbs you may have been introduced to last year w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e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p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jugación de los verbos 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jugating ER verbs is done in the SAME way we learned AR verb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ou must have one of the 6 subject pronoun groups and match them to one of 6 possible new endings which will replace the 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ust like AR verbs, the STEM will stay unchanged, and only the ending will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áctica de conjugación con verbos de 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o (apren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r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los (ven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sotros (le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e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ú (be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e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1:39:54Z</dcterms:created>
  <dc:creator>Heidi Peckens</dc:creator>
  <dc:description/>
  <dc:language>en-US</dc:language>
  <cp:lastModifiedBy>Heidi Peckens</cp:lastModifiedBy>
  <dcterms:modified xsi:type="dcterms:W3CDTF">2009-08-18T02:39:34Z</dcterms:modified>
  <cp:revision>2</cp:revision>
  <dc:subject/>
  <dc:title>Repaso de español 5to</dc:title>
</cp:coreProperties>
</file>